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67F-7F5C-46AF-9BFD-62E30FAB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E7C-60E7-4828-B5DC-BF7F0A3D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F20-7486-40FF-BFDE-AAC0C73A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BF8-2EBC-4A79-91D2-7E3B2B44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255B-B4F0-44E8-9227-7EBCAFF7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5AAE-A925-48D4-A649-347D2B22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FB17-DA19-402C-8255-6C75A443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59E3-00C1-4985-9804-395AA17B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04FD-A39B-4DA3-A9C2-9AB65EE3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086F-6E88-4CB9-810D-E1CC6F85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2C5B-F237-4E03-93EA-0BA94FF2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1888-0D1B-4C6C-97D2-14FDB8C5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E42E-F91C-4393-B52B-8D7298E5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99AD-5D94-4E89-A820-329D8C96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4978-0542-494A-8238-E1E944EB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9D52-6190-4FDC-9D5E-2AC0ABC8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D808-38CB-4926-84D1-54AEADEE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54D7-5310-41A9-BFBA-53CCA5E5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874-F5D5-48B1-B378-94496292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E479-23EF-4147-A750-8330B559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B564-9059-4215-B08D-DF09233A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ADE-5CB0-4994-A379-9266FA82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44F-2670-4209-AC1E-328675EE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B42-9079-4014-8A37-5C9A7E6C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E736-91B1-441F-8199-1994D5D734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AA83-3016-4A14-8060-88154E1F33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ocdingley.com/links/images/sports/Badminton_Extreme.jpg&amp;imgrefurl=http://www.docdingley.com/links/Sports.htm&amp;usg=__B0JPieGConJyhR1LNo2gAMKCPfU=&amp;h=430&amp;w=290&amp;sz=30&amp;hl=en&amp;start=2&amp;tbnid=5YpW2oCr62DZmM:&amp;tbnh=126&amp;tbnw=85&amp;prev=/images%3Fq%3Dbadminton%26gbv%3D2%26hl%3De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uk/imgres?imgurl=http://www.u.arizona.edu/~joellec/images/badminton.jpg&amp;imgrefurl=http://www.u.arizona.edu/~joellec/&amp;usg=__G8t3REBfFeHiiVU8Fp_e2MzSvmU=&amp;h=329&amp;w=264&amp;sz=14&amp;hl=en&amp;start=22&amp;tbnid=3626-WWT3UTcgM:&amp;tbnh=119&amp;tbnw=95&amp;prev=/images%3Fq%3Dbadminton%26gbv%3D2%26ndsp%3D20%26hl%3Den%26sa%3DN%26start%3D20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omic Sans MS"/>
              </a:rPr>
              <a:t>Skills and Techniqu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 Do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3500280"/>
            <a:ext cx="2484360" cy="3357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84640"/>
            <a:ext cx="2916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Learning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the end of the lesson you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now the different methods of gathering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w to describe these meth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y these methods are appropri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a model performer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e benefits of using a model perfor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Wiki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int2-pe.wikispac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ss Doogan Classroom les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Learning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the end of the lesson you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Know the different methods of gathering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w to describe these meth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y these methods are appropri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a model performer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e benefits of using a model perform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Model perform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urn to pg 8 in your work bookl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sing the information about model performers design a mindma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) a model performe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i) advantages of using a model perfor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Learning skil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s can be broken down into 3 pha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escribing a skill in badminton you should always be able to describe them using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ation, ac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ov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Methods of gathering inform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improve your skill level in an activity you must first analyses your performance to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dentify strengths and weaknesses.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en you can start working to improve your performance. We can do this us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) Using observation sched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) videoing you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) knowledge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bservation Schedu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sideration of Quality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look at your whole performa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ovement Analysi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look at one specific ski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bservation schedule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ed to record information about your perform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sually completed by a partner who is watching p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ideoing Perform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get to visualise your own perform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ou can also view a performance repeated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can use slow motion to make a more detailed technique analy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ou could use a video of your performance to complete your own observation sched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nowledge Of Resul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catter Gra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nowledge of results 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ok at the outcome of a skill (e.g. percentage succ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ok at where your shot w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se can also identify strengths and weaknesses of the sk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liability Of Inform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alidity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py into your jotter the table on pg 13 of the work bookl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4:15:56Z</dcterms:created>
  <dc:creator>DooganS</dc:creator>
  <dc:description/>
  <dc:language>en-US</dc:language>
  <cp:lastModifiedBy>DooganS</cp:lastModifiedBy>
  <dcterms:modified xsi:type="dcterms:W3CDTF">2009-11-02T18:10:53Z</dcterms:modified>
  <cp:revision>3</cp:revision>
  <dc:subject/>
  <dc:title>Skills and Techniques</dc:title>
</cp:coreProperties>
</file>